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74D6-960E-4736-B501-3DB3F39F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0890-85AF-4F59-AFC2-8C065E98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8594-DD20-41C6-8E81-A07BBA1C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8508-EBAC-437B-ACE0-AEBDA4B7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898C-0C69-4D2C-AAAC-18B427601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33B-589E-4301-9A85-DA39D4FE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B6D-7090-4A5E-8ED9-BD4198C9A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18E-3A08-4EB0-A68C-1B6C0FCE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5860-9E23-4A3D-8E64-12E7B05D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09DA-699B-46CD-99A6-F2A3C73C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0C7F-130A-43D8-9C7B-58DD9B69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AAF3-6FE7-4042-B318-2D16325D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AD90-F205-4652-A2A4-7993880B7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educators/p_websearch.html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earching and Ci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e Skills of Modern Histori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Program Files\Microsoft Office\MEDIA\CAGCAT10\j0299125.wmf"/>
          <p:cNvPicPr/>
          <p:nvPr/>
        </p:nvPicPr>
        <p:blipFill>
          <a:blip r:embed="rId2"/>
          <a:stretch/>
        </p:blipFill>
        <p:spPr>
          <a:xfrm>
            <a:off x="4038480" y="304920"/>
            <a:ext cx="110016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arching for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ips and Tric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panding Your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arching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more than on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er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Use the plus symbol ‘+’ to link 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e.g. Food + Drink to search both ter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Synony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Use the tilde symbol ‘~’ before a word to search that word and any like words or synony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e.g. Ancient Egyptian ~Food &gt;&gt; Searching Food, Cuisine, Diet etc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fining Your Sear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cluding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r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To refine your search and exclude particular terms from your search use the minus symbol ‘-’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e.g. Panthers –Sport, which will avoid websites related to Panthers sport te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. Searching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c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hra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To search an exact phrase use quotation marks “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- e.g. “Ancient Roman Weapons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iting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98989"/>
                </a:solidFill>
                <a:latin typeface="Calibri"/>
              </a:rPr>
              <a:t>It is important to record all your sources of information accurately and in the correct format, to add value to your work and recognise the work of oth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Boo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‘cite’ a book we use the following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uthorSurname, FirstName.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itle of Book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Place of Publication: Publisher, Year of Public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.g. (Grab a boo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ebsi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cite a website we use the following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uthorSurname, AuthorFirstName. “Title.” Date of Publication URL: Web Addr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.g. Complete for the following 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6T22:16:57Z</dcterms:created>
  <dc:creator>qhs</dc:creator>
  <dc:description/>
  <dc:language>en-US</dc:language>
  <cp:lastModifiedBy>DET User</cp:lastModifiedBy>
  <dcterms:modified xsi:type="dcterms:W3CDTF">2009-08-26T22:53:10Z</dcterms:modified>
  <cp:revision>5</cp:revision>
  <dc:subject/>
  <dc:title>Searching and Citing</dc:title>
</cp:coreProperties>
</file>